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38AF-4A4F-4B79-AC1C-122786CF11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atto di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uido 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638-16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ndra- The National Gallery depo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atto di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aolo Veronese-post 15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atto di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iambattista Tiep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colo XVII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1F8-E4DF-43A3-BE59-EB8A11FC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EB5-8DD1-408B-8135-953397D3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25D-B344-462E-8860-C8A3D2E0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C57-7903-48A3-8E68-013011FE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D52-1881-4E39-91AA-595A3B1B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40D-83C8-46FF-97AD-93BE3293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6FC-23FD-4C66-A874-C21FBECC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369-73C4-4146-8EBA-EFFA626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E35-847C-4032-A275-240FD89D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F42-9E6C-4D40-899D-74B72D3E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2DF-2AC6-4C44-987A-B6A308A2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8BE-DD56-403E-91F6-C4CA715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1371600" cy="5334120"/>
            </a:xfrm>
            <a:prstGeom prst="rect">
              <a:avLst/>
            </a:prstGeom>
            <a:gradFill rotWithShape="0">
              <a:gsLst>
                <a:gs pos="0">
                  <a:srgbClr val="8eb2b2"/>
                </a:gs>
                <a:gs pos="100000">
                  <a:srgbClr val="cc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71600" y="1523880"/>
              <a:ext cx="7772400" cy="5334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1371600" cy="152388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8e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371600" y="0"/>
              <a:ext cx="7772400" cy="152388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8eb2b2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17CD-E82D-4D6E-A2CB-6FC3DD6F7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online.it/Img/museum/Veronese/europa_g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52680" y="1828800"/>
            <a:ext cx="3962520" cy="206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bbeced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arola Chi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267080"/>
            <a:ext cx="6248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slide che seguono sono state utilizzate per introdurre i ragazzi all’argomento trattato in storia dell’arte nel modulo culturale del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iovanna Lagozzi ed Elisa Mil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ituto Olga Fiorini – Busto Arsizio (Varese), It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86280" y="304920"/>
            <a:ext cx="396216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l%20ratto%20di%20Europa%20-%20Veronese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715000" cy="4422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05600" y="6400800"/>
            <a:ext cx="2133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i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352680" y="304920"/>
            <a:ext cx="396252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151128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Europa = Continente -&gt; Geografia, Storia, Diri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Europa = Astro -&gt; Sci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Europa = Mito -&gt; 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27672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tologia = una radice comune per una cultura europ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racconto mitolog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876920" y="3873600"/>
            <a:ext cx="266688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Vai al racc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uropa_m" descr=""/>
          <p:cNvPicPr/>
          <p:nvPr/>
        </p:nvPicPr>
        <p:blipFill>
          <a:blip r:embed="rId2"/>
          <a:stretch/>
        </p:blipFill>
        <p:spPr>
          <a:xfrm>
            <a:off x="3178080" y="5289480"/>
            <a:ext cx="1219320" cy="982800"/>
          </a:xfrm>
          <a:prstGeom prst="rect">
            <a:avLst/>
          </a:prstGeom>
          <a:ln w="0">
            <a:noFill/>
          </a:ln>
        </p:spPr>
      </p:pic>
      <p:pic>
        <p:nvPicPr>
          <p:cNvPr id="61" name="Il%20ratto%20di%20Europa%20-%20Cerrini%201609-1681" descr=""/>
          <p:cNvPicPr/>
          <p:nvPr/>
        </p:nvPicPr>
        <p:blipFill>
          <a:blip r:embed="rId3"/>
          <a:stretch/>
        </p:blipFill>
        <p:spPr>
          <a:xfrm>
            <a:off x="1625760" y="5276880"/>
            <a:ext cx="137160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Il%20ratto%20di%20Europa%20-%20Gian%20Domenico%20ferretti%201692-1768" descr=""/>
          <p:cNvPicPr/>
          <p:nvPr/>
        </p:nvPicPr>
        <p:blipFill>
          <a:blip r:embed="rId4"/>
          <a:stretch/>
        </p:blipFill>
        <p:spPr>
          <a:xfrm>
            <a:off x="115920" y="5286240"/>
            <a:ext cx="9874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Il%20ratto%20di%20Europa%20-%20Guido%20Reni%201638-40" descr=""/>
          <p:cNvPicPr/>
          <p:nvPr/>
        </p:nvPicPr>
        <p:blipFill>
          <a:blip r:embed="rId5"/>
          <a:stretch/>
        </p:blipFill>
        <p:spPr>
          <a:xfrm>
            <a:off x="264960" y="3733920"/>
            <a:ext cx="68904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Il%20ratto%20di%20Europa%20-%20Rubens%201629" descr=""/>
          <p:cNvPicPr/>
          <p:nvPr/>
        </p:nvPicPr>
        <p:blipFill>
          <a:blip r:embed="rId6"/>
          <a:stretch/>
        </p:blipFill>
        <p:spPr>
          <a:xfrm>
            <a:off x="6093000" y="5308560"/>
            <a:ext cx="990360" cy="944640"/>
          </a:xfrm>
          <a:prstGeom prst="rect">
            <a:avLst/>
          </a:prstGeom>
          <a:ln w="0">
            <a:noFill/>
          </a:ln>
        </p:spPr>
      </p:pic>
      <p:pic>
        <p:nvPicPr>
          <p:cNvPr id="65" name="Il%20ratto%20di%20Europa%20-%20Tiepolo" descr=""/>
          <p:cNvPicPr/>
          <p:nvPr/>
        </p:nvPicPr>
        <p:blipFill>
          <a:blip r:embed="rId7"/>
          <a:stretch/>
        </p:blipFill>
        <p:spPr>
          <a:xfrm>
            <a:off x="4578480" y="5299200"/>
            <a:ext cx="1333440" cy="963360"/>
          </a:xfrm>
          <a:prstGeom prst="rect">
            <a:avLst/>
          </a:prstGeom>
          <a:ln w="0">
            <a:noFill/>
          </a:ln>
        </p:spPr>
      </p:pic>
      <p:pic>
        <p:nvPicPr>
          <p:cNvPr id="66" name="Il%20ratto%20di%20Europa%20-%20Veronese" descr=""/>
          <p:cNvPicPr/>
          <p:nvPr/>
        </p:nvPicPr>
        <p:blipFill>
          <a:blip r:embed="rId8"/>
          <a:stretch/>
        </p:blipFill>
        <p:spPr>
          <a:xfrm>
            <a:off x="7264440" y="5289480"/>
            <a:ext cx="1270080" cy="98280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9" action="ppaction://hlinksldjump"/>
          </p:cNvPr>
          <p:cNvSpPr/>
          <p:nvPr/>
        </p:nvSpPr>
        <p:spPr>
          <a:xfrm>
            <a:off x="1676520" y="6477120"/>
            <a:ext cx="6858000" cy="307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Clicca sull’immagine per ingrandi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3434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ito della principessa Europa è stato interpretato da artisti di tutte le epoche. Ecco alcuni esem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352680" y="304920"/>
            <a:ext cx="396252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523880"/>
            <a:ext cx="8001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rincipessa feni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ov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ceglie Europa come oggetto del suo desiderio e prende le sembianze di un toro bi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rcur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come mandriano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duce Giove da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ropa resta affascinata dalla bellezza del toro e lo segue sulle        acque del m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iunti sulla terra ferma Giove le rivela la sua ident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l’unione di Giove ed Europa nascono tre figli: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inosse, Radamanto, Sarped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iove dà Europa in sposa al re dell’iso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ster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he adotta i tre fig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010280" y="6400800"/>
            <a:ext cx="2133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i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76720" y="304920"/>
            <a:ext cx="396216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l%20ratto%20di%20Europa%20-%20Guido%20Reni%201638-40" descr=""/>
          <p:cNvPicPr/>
          <p:nvPr/>
        </p:nvPicPr>
        <p:blipFill>
          <a:blip r:embed="rId1"/>
          <a:stretch/>
        </p:blipFill>
        <p:spPr>
          <a:xfrm>
            <a:off x="3632040" y="1905120"/>
            <a:ext cx="3251520" cy="4495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005600" y="6400800"/>
            <a:ext cx="2133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i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08400" y="304920"/>
            <a:ext cx="396252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l%20ratto%20di%20Europa%20-%20Gian%20Domenico%20ferretti%201692-1768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4329360" cy="434340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7005600" y="6400800"/>
            <a:ext cx="2133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i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67160" y="304920"/>
            <a:ext cx="396252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l%20ratto%20di%20Europa%20-%20Cerrini%201609-1681" descr=""/>
          <p:cNvPicPr/>
          <p:nvPr/>
        </p:nvPicPr>
        <p:blipFill>
          <a:blip r:embed="rId1"/>
          <a:stretch/>
        </p:blipFill>
        <p:spPr>
          <a:xfrm>
            <a:off x="2666880" y="2173320"/>
            <a:ext cx="5562720" cy="409428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005600" y="6400800"/>
            <a:ext cx="2133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i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90840" y="304920"/>
            <a:ext cx="396252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europa_m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27080"/>
            <a:ext cx="5257800" cy="42372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7005600" y="6400800"/>
            <a:ext cx="2133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i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24080" y="304920"/>
            <a:ext cx="396252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l%20ratto%20di%20Europa%20-%20Tiepolo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5486400" cy="396396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7005600" y="6400800"/>
            <a:ext cx="2133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i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8120" y="304920"/>
            <a:ext cx="396216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l%20ratto%20di%20Europa%20-%20Rubens%201629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4569120" cy="435600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005600" y="6400800"/>
            <a:ext cx="2133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i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356400" y="2033640"/>
            <a:ext cx="16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Prof. Elisa M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20:30:57Z</dcterms:created>
  <dc:creator>giacomo.</dc:creator>
  <dc:description/>
  <dc:language>en-US</dc:language>
  <cp:lastModifiedBy>A_GUSSO</cp:lastModifiedBy>
  <dcterms:modified xsi:type="dcterms:W3CDTF">2003-06-23T11:53:46Z</dcterms:modified>
  <cp:revision>21</cp:revision>
  <dc:subject/>
  <dc:title>Nessun titolo diapositiva</dc:title>
</cp:coreProperties>
</file>