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00A-24F0-4222-8256-7A183774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068-08CE-4DB6-90B1-CA9036AB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E89-11E0-45BC-8A52-B5BEF81C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5F0-F5E8-4162-AD3B-31CAD5E0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244-5E5B-4B01-B050-8EC78522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ADD-6091-444F-8CBB-16A5B3FC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1FF-F273-4B0B-992B-0BE96181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CA7-34FD-4C34-AE7D-FE88079F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00D-B169-4925-9FE2-3944503E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523-39A3-4FAA-ACB6-EC6E0585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AE1-5362-41B6-9287-14475488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545-9CC3-4BF2-B9FE-730A0323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1DC2-2E38-4C56-9504-83B827D189F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836640"/>
            <a:ext cx="6480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Calibri"/>
              </a:rPr>
              <a:t>INTERVIEW TRANSCRIP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Calibri"/>
              </a:rPr>
              <a:t>Software used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32523"/>
                </a:solidFill>
                <a:latin typeface="Calibri"/>
              </a:rPr>
              <a:t>Dragon</a:t>
            </a:r>
            <a:r>
              <a:rPr b="1" lang="it-IT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632523"/>
                </a:solidFill>
                <a:latin typeface="Calibri"/>
              </a:rPr>
              <a:t>Naturally</a:t>
            </a:r>
            <a:r>
              <a:rPr b="1" lang="it-IT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632523"/>
                </a:solidFill>
                <a:latin typeface="Calibri"/>
              </a:rPr>
              <a:t>Speaking 11.0</a:t>
            </a:r>
            <a:r>
              <a:rPr b="1" lang="it-IT" sz="32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CasellaDiTesto 3"/>
          <p:cNvSpPr/>
          <p:nvPr/>
        </p:nvSpPr>
        <p:spPr>
          <a:xfrm>
            <a:off x="1344600" y="5445000"/>
            <a:ext cx="7007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Liceo Scientifico Albert Einstein - Cervignano del Friu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Calibri"/>
              </a:rPr>
              <a:t>Mattia Giavedoni  V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uppo 2"/>
          <p:cNvGrpSpPr/>
          <p:nvPr/>
        </p:nvGrpSpPr>
        <p:grpSpPr>
          <a:xfrm>
            <a:off x="1989000" y="3357720"/>
            <a:ext cx="5384880" cy="1550880"/>
            <a:chOff x="1989000" y="3357720"/>
            <a:chExt cx="5384880" cy="1550880"/>
          </a:xfrm>
        </p:grpSpPr>
        <p:pic>
          <p:nvPicPr>
            <p:cNvPr id="44" name="Picture 4" descr=""/>
            <p:cNvPicPr/>
            <p:nvPr/>
          </p:nvPicPr>
          <p:blipFill>
            <a:blip r:embed="rId1"/>
            <a:stretch/>
          </p:blipFill>
          <p:spPr>
            <a:xfrm>
              <a:off x="1989000" y="3379320"/>
              <a:ext cx="1811880" cy="152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5" descr=""/>
            <p:cNvPicPr/>
            <p:nvPr/>
          </p:nvPicPr>
          <p:blipFill>
            <a:blip r:embed="rId2"/>
            <a:stretch/>
          </p:blipFill>
          <p:spPr>
            <a:xfrm>
              <a:off x="3751920" y="3357720"/>
              <a:ext cx="1810800" cy="152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6" descr=""/>
            <p:cNvPicPr/>
            <p:nvPr/>
          </p:nvPicPr>
          <p:blipFill>
            <a:blip r:embed="rId3"/>
            <a:stretch/>
          </p:blipFill>
          <p:spPr>
            <a:xfrm>
              <a:off x="5563080" y="3357720"/>
              <a:ext cx="1810800" cy="152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2523"/>
                </a:solidFill>
                <a:latin typeface="Calibri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953735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Calibri"/>
              </a:rPr>
              <a:t>Instal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Calibri"/>
              </a:rPr>
              <a:t>Hardware configuration and calib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Calibri"/>
              </a:rPr>
              <a:t>Voice recognition train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Calibri"/>
              </a:rPr>
              <a:t>Data elabor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Calibri"/>
              </a:rPr>
              <a:t>Listening and dic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Calibri"/>
              </a:rPr>
              <a:t>Control and corr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uppo 1"/>
          <p:cNvGrpSpPr/>
          <p:nvPr/>
        </p:nvGrpSpPr>
        <p:grpSpPr>
          <a:xfrm>
            <a:off x="5435640" y="3511440"/>
            <a:ext cx="3081240" cy="2094120"/>
            <a:chOff x="5435640" y="3511440"/>
            <a:chExt cx="3081240" cy="2094120"/>
          </a:xfrm>
        </p:grpSpPr>
        <p:pic>
          <p:nvPicPr>
            <p:cNvPr id="50" name="Picture 4" descr=""/>
            <p:cNvPicPr/>
            <p:nvPr/>
          </p:nvPicPr>
          <p:blipFill>
            <a:blip r:embed="rId1"/>
            <a:stretch/>
          </p:blipFill>
          <p:spPr>
            <a:xfrm>
              <a:off x="7405560" y="3511440"/>
              <a:ext cx="1111320" cy="11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"/>
            <p:cNvPicPr/>
            <p:nvPr/>
          </p:nvPicPr>
          <p:blipFill>
            <a:blip r:embed="rId2"/>
            <a:stretch/>
          </p:blipFill>
          <p:spPr>
            <a:xfrm>
              <a:off x="6489360" y="4064400"/>
              <a:ext cx="111600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" descr=""/>
            <p:cNvPicPr/>
            <p:nvPr/>
          </p:nvPicPr>
          <p:blipFill>
            <a:blip r:embed="rId3"/>
            <a:stretch/>
          </p:blipFill>
          <p:spPr>
            <a:xfrm>
              <a:off x="5435640" y="4496400"/>
              <a:ext cx="1116000" cy="1109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HARDWARE CONFIGURATION  and</a:t>
            </a:r>
            <a:br>
              <a:rPr sz="3200"/>
            </a:b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VOICE RECOGNITION TRAIN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496520"/>
            <a:ext cx="8352000" cy="4884840"/>
          </a:xfrm>
          <a:prstGeom prst="rect">
            <a:avLst/>
          </a:prstGeom>
          <a:noFill/>
          <a:ln w="9360">
            <a:solidFill>
              <a:srgbClr val="953735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632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2060"/>
                </a:solidFill>
                <a:latin typeface="Calibri"/>
              </a:rPr>
              <a:t>Post installation</a:t>
            </a:r>
            <a:r>
              <a:rPr b="0" lang="it-IT" sz="3400" spc="-1" strike="noStrike">
                <a:solidFill>
                  <a:srgbClr val="002060"/>
                </a:solidFill>
                <a:latin typeface="Calibri"/>
              </a:rPr>
              <a:t>  audio lin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2060"/>
                </a:solidFill>
                <a:latin typeface="Calibri"/>
              </a:rPr>
              <a:t>configuration </a:t>
            </a:r>
            <a:r>
              <a:rPr b="0" lang="en-GB" sz="3400" spc="-1" strike="noStrike">
                <a:solidFill>
                  <a:srgbClr val="002060"/>
                </a:solidFill>
                <a:latin typeface="Calibri"/>
              </a:rPr>
              <a:t> for microphone us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632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2060"/>
                </a:solidFill>
                <a:latin typeface="Calibri"/>
              </a:rPr>
              <a:t>Recognition training based on previous text reading in a clear voice</a:t>
            </a:r>
            <a:r>
              <a:rPr b="0" lang="en-GB" sz="3400" spc="-1" strike="noStrike">
                <a:solidFill>
                  <a:srgbClr val="002060"/>
                </a:solidFill>
                <a:latin typeface="Wingdings"/>
                <a:ea typeface="Wingdings"/>
              </a:rPr>
              <a:t></a:t>
            </a:r>
            <a:r>
              <a:rPr b="0" lang="en-GB" sz="3400" spc="-1" strike="noStrike">
                <a:solidFill>
                  <a:srgbClr val="002060"/>
                </a:solidFill>
                <a:latin typeface="Calibri"/>
              </a:rPr>
              <a:t> for software recognition of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53735"/>
                </a:solidFill>
                <a:latin typeface="Calibri"/>
              </a:rPr>
              <a:t>v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32523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53735"/>
                </a:solidFill>
                <a:latin typeface="Calibri"/>
              </a:rPr>
              <a:t>pronunciation of the spea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977160" y="1654200"/>
            <a:ext cx="18288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640" y="3330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LISTENING -  DICTATION-  CONTROL 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83920"/>
            <a:ext cx="8424720" cy="4886280"/>
          </a:xfrm>
          <a:prstGeom prst="rect">
            <a:avLst/>
          </a:prstGeom>
          <a:noFill/>
          <a:ln w="9360">
            <a:solidFill>
              <a:srgbClr val="953735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632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2060"/>
                </a:solidFill>
                <a:latin typeface="Calibri"/>
              </a:rPr>
              <a:t>Interview audio listening  with earphones, for simultaneous dictation of the convers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632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2060"/>
                </a:solidFill>
                <a:latin typeface="Calibri"/>
              </a:rPr>
              <a:t>Text post reading  for eventual mistake correction  and  punctuation add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6875640" y="4221000"/>
            <a:ext cx="18619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084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2523"/>
                </a:solidFill>
                <a:latin typeface="Calibri"/>
              </a:rPr>
              <a:t>PROS   AND C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052280"/>
            <a:ext cx="8435880" cy="5616360"/>
          </a:xfrm>
          <a:prstGeom prst="rect">
            <a:avLst/>
          </a:prstGeom>
          <a:noFill/>
          <a:ln w="9360">
            <a:solidFill>
              <a:srgbClr val="953735"/>
            </a:solidFill>
            <a:prstDash val="sysDash"/>
            <a:miter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Calibri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Calibri"/>
              </a:rPr>
              <a:t>Software problems after rest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Calibri"/>
              </a:rPr>
              <a:t>PC Microphone low qu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Calibri"/>
              </a:rPr>
              <a:t>Speaker’ s text not always clear and syntactically corr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Calibri"/>
              </a:rPr>
              <a:t>Software errors during transcriptio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Calibri"/>
              </a:rPr>
              <a:t>Large amount of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53735"/>
                </a:solidFill>
                <a:latin typeface="Calibri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Calibri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53735"/>
                </a:solidFill>
                <a:latin typeface="Calibri"/>
              </a:rPr>
              <a:t>Familiarity with new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53735"/>
                </a:solidFill>
                <a:latin typeface="Calibri"/>
              </a:rPr>
              <a:t>Experimentation of new working 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53735"/>
                </a:solidFill>
                <a:latin typeface="Calibri"/>
              </a:rPr>
              <a:t>Time saving in comparison with manual tran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9537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uppo 1"/>
          <p:cNvGrpSpPr/>
          <p:nvPr/>
        </p:nvGrpSpPr>
        <p:grpSpPr>
          <a:xfrm>
            <a:off x="5460840" y="3645000"/>
            <a:ext cx="2951280" cy="1001520"/>
            <a:chOff x="5460840" y="3645000"/>
            <a:chExt cx="2951280" cy="1001520"/>
          </a:xfrm>
        </p:grpSpPr>
        <p:pic>
          <p:nvPicPr>
            <p:cNvPr id="62" name="Picture 5" descr=""/>
            <p:cNvPicPr/>
            <p:nvPr/>
          </p:nvPicPr>
          <p:blipFill>
            <a:blip r:embed="rId1"/>
            <a:stretch/>
          </p:blipFill>
          <p:spPr>
            <a:xfrm>
              <a:off x="6935760" y="3667320"/>
              <a:ext cx="147636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5" descr=""/>
            <p:cNvPicPr/>
            <p:nvPr/>
          </p:nvPicPr>
          <p:blipFill>
            <a:blip r:embed="rId2"/>
            <a:stretch/>
          </p:blipFill>
          <p:spPr>
            <a:xfrm>
              <a:off x="5460840" y="3645000"/>
              <a:ext cx="1474920" cy="98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8:05:07Z</dcterms:created>
  <dc:creator>m</dc:creator>
  <dc:description/>
  <dc:language>en-US</dc:language>
  <cp:lastModifiedBy>admin</cp:lastModifiedBy>
  <dcterms:modified xsi:type="dcterms:W3CDTF">2013-05-03T10:45:03Z</dcterms:modified>
  <cp:revision>25</cp:revision>
  <dc:subject/>
  <dc:title>Utilized software: Dragon Naturally speaking 11.0</dc:title>
</cp:coreProperties>
</file>