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4387-B7D8-4A95-9C7C-BA9AA026E3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6902-4134-4241-BB4E-710DADB4CB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8BE-0E66-4214-854B-247B57EF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C49-1358-47E9-9C7D-6F1C31F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A15-04AF-406D-B65D-595C5B93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CCC-A1B4-4409-98CF-DA8C6290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471-DFDB-4DCD-A560-2A67CE97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C60-1704-4F46-8ACF-DB2585A7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1FA-82B8-49AD-80D3-B5453571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DFE-0CB3-423A-A280-827C04A6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4BD-FC71-4D22-A851-149B4819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0E6-A62D-4C98-B343-0CFA737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117-1352-4C3E-B2B2-C6DB254F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99C-E5BE-4241-BF54-4C497A1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C70A-1B4B-4B5D-9124-3DE08660640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10920" y="1773360"/>
            <a:ext cx="8280360" cy="4751280"/>
          </a:xfrm>
          <a:prstGeom prst="rect">
            <a:avLst/>
          </a:prstGeom>
          <a:noFill/>
          <a:ln w="9360">
            <a:solidFill>
              <a:srgbClr val="35eb46"/>
            </a:solidFill>
            <a:prstDash val="lgDashDotDot"/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Calibri"/>
              </a:rPr>
              <a:t>Present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5eb46"/>
                </a:solidFill>
                <a:latin typeface="Calibri"/>
              </a:rPr>
              <a:t>Percorso di orientamento disciplin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16 maggio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ISIS MALIGNANI - U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5eb46"/>
                </a:solidFill>
                <a:latin typeface="Calibri"/>
              </a:rPr>
              <a:t>Liceo Scientifico Albert Eins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Calibri"/>
              </a:rPr>
              <a:t>ISIS - Cervignano del Friu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35eb46"/>
                </a:solidFill>
                <a:latin typeface="Calibri"/>
              </a:rPr>
              <a:t>CLASSE V A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            Prof.ssa Marilena Beltrami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55640" y="446040"/>
            <a:ext cx="77770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404280"/>
            <a:ext cx="8424720" cy="600084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STEP 1  I dati raccolti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Classificazione sulla base dei  quesiti p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.6 Quale/i aspetti caratteriali risultano necessar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(determinazione, tenacia, adattabilità, flessibilità, disciplina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ostanza, creatività, ...) </a:t>
            </a:r>
            <a:r>
              <a:rPr b="1" lang="it-IT" sz="1800" spc="-1" strike="noStrike">
                <a:solidFill>
                  <a:srgbClr val="00b0f0"/>
                </a:solidFill>
                <a:latin typeface="Arial"/>
                <a:ea typeface="Arial"/>
              </a:rPr>
              <a:t>per svolgere al meglio la professi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f0"/>
                </a:solidFill>
                <a:latin typeface="Arial"/>
                <a:ea typeface="Arial"/>
              </a:rPr>
              <a:t>oggetto del tuo interes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Vengono richieste le medesime qualità necessarie al percorso di studi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52%: tenacia - determinazio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Ambiti lavorativi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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 medico, commercialista, organizzatore di eventi.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48%:  capacità di ascolto e  capacità di adattamento ruolo fondament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24%:  pazienz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Altre doti fondamental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spirito di collaborazione (soprattutto in ambito medic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organizzazi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impegno e la capacità di sacrific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onsapevolezza della propria posizio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magine 5" descr=""/>
          <p:cNvPicPr/>
          <p:nvPr/>
        </p:nvPicPr>
        <p:blipFill>
          <a:blip r:embed="rId1"/>
          <a:stretch/>
        </p:blipFill>
        <p:spPr>
          <a:xfrm>
            <a:off x="7478640" y="574560"/>
            <a:ext cx="12384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905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1"/>
          <p:cNvSpPr/>
          <p:nvPr/>
        </p:nvSpPr>
        <p:spPr>
          <a:xfrm>
            <a:off x="493560" y="692280"/>
            <a:ext cx="8326440" cy="624276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STEP 1  I dati raccolti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Classificazione sulla base dei  quesiti post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Q7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Il profilo professionale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preved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specifica specializz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una scelta in itinere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richiede una formazione  a carattere genera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ESITI: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60% dei dati raccolti </a:t>
            </a:r>
            <a:r>
              <a:rPr b="0" lang="it-IT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 per  la maggior parte dei casi preve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b0f0"/>
                </a:solidFill>
                <a:latin typeface="Arial"/>
              </a:rPr>
              <a:t>FASE A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preparazione gener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b0f0"/>
                </a:solidFill>
                <a:latin typeface="Arial"/>
              </a:rPr>
              <a:t>FASE B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preparazione nel campo specifico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</a:rPr>
              <a:t>Q8.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Il profilo professionale del quale ti sei interessato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richiede la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conoscenza delle lingue nel corso di studi preparatorio o dopo la laur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ESITI  VARI:  </a:t>
            </a: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LEGATI AL CORSO DI STUDIO INTRAP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Il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60%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figure intervistate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non menziona la conoscenza della lingua straniera</a:t>
            </a:r>
            <a:r>
              <a:rPr b="0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</a:t>
            </a:r>
            <a:r>
              <a:rPr b="0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professioni “tradizionali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” (medicina, giurisprudenz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Professionalità più recenti -  con sbocchi lavorativi internazionali  </a:t>
            </a:r>
            <a:r>
              <a:rPr b="1" lang="it-IT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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 obbligatoria una forte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preparazione a carattere linguistico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(</a:t>
            </a:r>
            <a:r>
              <a:rPr b="1" lang="it-IT" sz="1600" spc="-1" strike="noStrike">
                <a:solidFill>
                  <a:srgbClr val="e46c0a"/>
                </a:solidFill>
                <a:latin typeface="Arial"/>
                <a:ea typeface="Arial"/>
              </a:rPr>
              <a:t>ENGLISH FOR SPECIFIC PURPOSES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6213600" y="831960"/>
            <a:ext cx="24699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703080"/>
            <a:ext cx="8424720" cy="566388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STEP 1  I dati raccolti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VII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lassificazione sulla base dei  quesiti posti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9. - Il profilo professionale 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revede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periodi di mobilità e/o studio 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all'estero?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SITI  VARI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:  </a:t>
            </a:r>
            <a:r>
              <a:rPr b="1" lang="it-IT" sz="1800" spc="-1" strike="noStrike">
                <a:solidFill>
                  <a:srgbClr val="00b0f0"/>
                </a:solidFill>
                <a:latin typeface="Arial"/>
                <a:ea typeface="Arial"/>
              </a:rPr>
              <a:t>LEGATI AL CORSO DI STUDIO INTRAPRESO</a:t>
            </a: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.</a:t>
            </a:r>
            <a:br>
              <a:rPr sz="1600"/>
            </a:br>
            <a:br>
              <a:rPr sz="1600"/>
            </a:br>
            <a:br>
              <a:rPr sz="1800"/>
            </a:br>
            <a:r>
              <a:rPr b="1" lang="it-IT" sz="1800" spc="-1" strike="noStrike">
                <a:solidFill>
                  <a:srgbClr val="00b0f0"/>
                </a:solidFill>
                <a:latin typeface="Arial"/>
                <a:ea typeface="Arial"/>
              </a:rPr>
              <a:t>CONSIGLIO DI ALCUNE FIGURE PROFESSIONALI </a:t>
            </a: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 andare a studiare all’estero anche se non è necessario per il corso degli studi.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Altri: </a:t>
            </a:r>
            <a:r>
              <a:rPr b="1" lang="it-IT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trascorrere un periodo di studio all’estero</a:t>
            </a:r>
            <a:br>
              <a:rPr sz="1600"/>
            </a:b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         </a:t>
            </a:r>
            <a:r>
              <a:rPr b="1" lang="it-IT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cercare sbocchi lavorativi all’estero.</a:t>
            </a:r>
            <a:br>
              <a:rPr sz="1600"/>
            </a:br>
            <a:br>
              <a:rPr sz="16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 10.-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 caso positivo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, disponibilità ad affrontare le sfide linguistiche, organizzative e culturali che ne derivano?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Totalità di riscontri positivi: disposti ad affrontare un periodo di studio all’este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959520" y="765000"/>
            <a:ext cx="16574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asellaDiTesto 1"/>
          <p:cNvSpPr/>
          <p:nvPr/>
        </p:nvSpPr>
        <p:spPr>
          <a:xfrm>
            <a:off x="179280" y="189000"/>
            <a:ext cx="8569440" cy="661644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STEP 2  </a:t>
            </a:r>
            <a:r>
              <a:rPr b="1" lang="it-IT" sz="2400" spc="-1" strike="noStrike">
                <a:solidFill>
                  <a:srgbClr val="e46c0a"/>
                </a:solidFill>
                <a:latin typeface="Arial"/>
              </a:rPr>
              <a:t>BLOG 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I nostri com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Quantità soddisfacente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dati raccolti: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Qualità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dati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raccol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ercorsi e metodologie di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modalità e tipologia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ompetenze e pre-requisiti richies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formazioni su sbocchi occupazional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onferma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dell’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potesi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iniziale: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eterminazione, entusiasmo, disponibilità dell’intervi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affinità rispetto a interessi e attitudini perso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ossibilità occupazionali (anche all’est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sclusione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dell’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potesi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iniziale: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ifficoltà di accesso alla facol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arenza di conoscenze basil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congruenza rispetto alle attitudini perso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Tipologia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di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tervista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-mail 6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faccia a faccia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telefonica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www.preventivifotovoltaico.com/wp-content/uploads/2010/05/indecisione-300x227.jpg"/>
          <p:cNvPicPr/>
          <p:nvPr/>
        </p:nvPicPr>
        <p:blipFill>
          <a:blip r:embed="rId1"/>
          <a:stretch/>
        </p:blipFill>
        <p:spPr>
          <a:xfrm>
            <a:off x="5624640" y="4400640"/>
            <a:ext cx="30463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tangolo 2"/>
          <p:cNvSpPr/>
          <p:nvPr/>
        </p:nvSpPr>
        <p:spPr>
          <a:xfrm>
            <a:off x="122400" y="382680"/>
            <a:ext cx="8913600" cy="594612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STEP 2: </a:t>
            </a:r>
            <a:r>
              <a:rPr b="1" lang="it-IT" sz="2400" spc="-1" strike="noStrike">
                <a:solidFill>
                  <a:srgbClr val="f79646"/>
                </a:solidFill>
                <a:latin typeface="Arial"/>
                <a:ea typeface="Arial"/>
              </a:rPr>
              <a:t>BLOG II 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-  I nostri com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otenzialità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dell’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tervista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testimonianza diretta di chi «vive» la prof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viluppo di competenze relazionali e comunicative, richieste dalle profess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gestione di un colloquio forma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Limiti delle interviste effettuate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terazione indiretta con l’interloc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ccessiva sinteticità e vaghezza delle risposte otte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arziale inefficacia delle domande effett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6285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30200" y="4653000"/>
            <a:ext cx="8298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asellaDiTesto 2"/>
          <p:cNvSpPr/>
          <p:nvPr/>
        </p:nvSpPr>
        <p:spPr>
          <a:xfrm>
            <a:off x="176040" y="192240"/>
            <a:ext cx="8785440" cy="6586200"/>
          </a:xfrm>
          <a:prstGeom prst="rect">
            <a:avLst/>
          </a:prstGeom>
          <a:noFill/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375e"/>
                </a:solidFill>
                <a:latin typeface="Arial"/>
              </a:rPr>
              <a:t>STEP 3:   </a:t>
            </a:r>
            <a:r>
              <a:rPr b="1" lang="it-IT" sz="2400" spc="-1" strike="noStrike">
                <a:solidFill>
                  <a:srgbClr val="e46c0a"/>
                </a:solidFill>
                <a:latin typeface="Arial"/>
              </a:rPr>
              <a:t>FORUM</a:t>
            </a:r>
            <a:r>
              <a:rPr b="1" lang="it-IT" sz="2400" spc="-1" strike="noStrike">
                <a:solidFill>
                  <a:srgbClr val="17375e"/>
                </a:solidFill>
                <a:latin typeface="Arial"/>
              </a:rPr>
              <a:t> -  Le nostre rifless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46c0a"/>
                </a:solidFill>
                <a:latin typeface="Arial"/>
              </a:rPr>
              <a:t>A che cosa è servito il percorso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375e"/>
                </a:solidFill>
                <a:latin typeface="Arial"/>
              </a:rPr>
              <a:t>Riflessioni person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Conferma/messa in dubbio e riflessione sul </a:t>
            </a:r>
            <a:r>
              <a:rPr b="1" i="1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proprio orientamento universitario </a:t>
            </a:r>
            <a:r>
              <a:rPr b="0" i="1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e/o lav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Importanza dell’</a:t>
            </a:r>
            <a:r>
              <a:rPr b="1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incontro personale </a:t>
            </a: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con una figura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Riscontro</a:t>
            </a: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  reale utilità  </a:t>
            </a:r>
            <a:r>
              <a:rPr b="1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metodi, approcci e competenze acquisite in ambito scolas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applicazione’ analisi del testo ad un’intervista orale o scrit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raccolta e classificazione  da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uso di software specif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Riflessioni sull’uso del codice lingu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Risposte brevi e con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Organizzazione paratattica del dis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Lessico specifico, tecnico e dettagl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Struttura argomentativa del dis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7375e"/>
                </a:solidFill>
                <a:latin typeface="Arial"/>
                <a:ea typeface="Arial"/>
              </a:rPr>
              <a:t>Comunicazione paralingu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5940360" y="3933720"/>
            <a:ext cx="28083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L CONTRIBUTI DELLA MEDIAZIONE LINGUISTICA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all’italiano all’ingle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640720" cy="5602320"/>
          </a:xfrm>
          <a:prstGeom prst="rect">
            <a:avLst/>
          </a:prstGeom>
          <a:noFill/>
          <a:ln w="28440">
            <a:solidFill>
              <a:srgbClr val="ffc000"/>
            </a:solidFill>
            <a:prstDash val="sysDash"/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Perche’ lavorare  sulle schede predisposte per il  percors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Entrare in un contesto specifico </a:t>
            </a:r>
            <a:r>
              <a:rPr b="0" lang="en-US" sz="1600" spc="-1" strike="noStrike">
                <a:solidFill>
                  <a:srgbClr val="17375e"/>
                </a:solidFill>
                <a:latin typeface="Wingdings"/>
                <a:ea typeface="Wingdings"/>
              </a:rPr>
              <a:t>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mondo accademico-mondo del lavo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Prendere consapevolezza della necessità di acquisire 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la specific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micro-lingua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dell’ambito lavorativo di riferimen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Riflettere su 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rapporto / gap fra  il contesto scolastico e quello lavorativ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  <a:ea typeface="Arial"/>
              </a:rPr>
              <a:t>Perche’ passare dall’intervista in italiano alla sua versione ingles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Analizzare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il testo (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domande-risposte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) e comprenderlo in modo approfondi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Interpretare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i significati sottointe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Utilizzare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un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lessico specifico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e46c0a"/>
                </a:solidFill>
                <a:latin typeface="Arial"/>
                <a:ea typeface="Arial"/>
              </a:rPr>
              <a:t>ESP-English For specific Purposes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Riflettere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sull’eventuale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esigenza di  riformulare le domande in modo più effic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Rileggere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l’intervista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da un punto di vista diver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Potenziare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 la capacità di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valutare il testo </a:t>
            </a:r>
            <a:r>
              <a:rPr b="0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in </a:t>
            </a:r>
            <a:r>
              <a:rPr b="1" lang="en-US" sz="1600" spc="-1" strike="noStrike">
                <a:solidFill>
                  <a:srgbClr val="17375e"/>
                </a:solidFill>
                <a:latin typeface="Arial"/>
                <a:ea typeface="Arial"/>
              </a:rPr>
              <a:t>modo piu’ crit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uppo 2"/>
          <p:cNvGrpSpPr/>
          <p:nvPr/>
        </p:nvGrpSpPr>
        <p:grpSpPr>
          <a:xfrm>
            <a:off x="7101000" y="3360600"/>
            <a:ext cx="1854000" cy="1870200"/>
            <a:chOff x="7101000" y="3360600"/>
            <a:chExt cx="1854000" cy="1870200"/>
          </a:xfrm>
        </p:grpSpPr>
        <p:pic>
          <p:nvPicPr>
            <p:cNvPr id="95" name="Picture 9" descr=""/>
            <p:cNvPicPr/>
            <p:nvPr/>
          </p:nvPicPr>
          <p:blipFill>
            <a:blip r:embed="rId1"/>
            <a:stretch/>
          </p:blipFill>
          <p:spPr>
            <a:xfrm>
              <a:off x="8028000" y="3360600"/>
              <a:ext cx="92340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0" descr=""/>
            <p:cNvPicPr/>
            <p:nvPr/>
          </p:nvPicPr>
          <p:blipFill>
            <a:blip r:embed="rId2"/>
            <a:stretch/>
          </p:blipFill>
          <p:spPr>
            <a:xfrm>
              <a:off x="8028000" y="4303440"/>
              <a:ext cx="927000" cy="92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1" descr=""/>
            <p:cNvPicPr/>
            <p:nvPr/>
          </p:nvPicPr>
          <p:blipFill>
            <a:blip r:embed="rId3"/>
            <a:stretch/>
          </p:blipFill>
          <p:spPr>
            <a:xfrm>
              <a:off x="7101000" y="3376080"/>
              <a:ext cx="927000" cy="927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Calibri"/>
              </a:rPr>
              <a:t>INTERVISTE E CONTRIBU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4725720"/>
          </a:xfrm>
          <a:prstGeom prst="rect">
            <a:avLst/>
          </a:prstGeom>
          <a:noFill/>
          <a:ln w="9360">
            <a:solidFill>
              <a:srgbClr val="002060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L’ EDUCATRICE PROFESSI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002060"/>
                </a:solidFill>
                <a:latin typeface="Calibri"/>
              </a:rPr>
              <a:t>CHIRURGO ORTOPEDIC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(livello super specialistico  della chirurgia del pie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Intervento Blog 1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Interventi Forum 1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541600" cy="1590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702320" y="4925880"/>
            <a:ext cx="38512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1267920"/>
            <a:ext cx="8496360" cy="5256360"/>
          </a:xfrm>
          <a:prstGeom prst="rect">
            <a:avLst/>
          </a:prstGeom>
          <a:noFill/>
          <a:ln w="9360">
            <a:solidFill>
              <a:srgbClr val="ffc000"/>
            </a:solidFill>
            <a:prstDash val="lgDash"/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f0"/>
                </a:solidFill>
                <a:latin typeface="Arial"/>
                <a:ea typeface="Arial"/>
              </a:rPr>
              <a:t>Testimon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1" lang="it-IT" sz="48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1" lang="it-IT" sz="48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Cavallari Pi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Giavedoni Matt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Mosca Des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Rabino Elen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Rmus Maria 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Soranzo Stef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b0f0"/>
                </a:solidFill>
                <a:latin typeface="Arial"/>
                <a:ea typeface="Arial"/>
              </a:rPr>
              <a:t>Coordinatore percorso</a:t>
            </a:r>
            <a:r>
              <a:rPr b="1" lang="it-IT" sz="2000" spc="-1" strike="noStrike">
                <a:solidFill>
                  <a:srgbClr val="00b0f0"/>
                </a:solidFill>
                <a:latin typeface="Arial"/>
                <a:ea typeface="Arial"/>
              </a:rPr>
              <a:t>: </a:t>
            </a:r>
            <a:r>
              <a:rPr b="1" lang="it-IT" sz="20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b0f0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b0f0"/>
                </a:solidFill>
                <a:latin typeface="Arial"/>
                <a:ea typeface="Arial"/>
              </a:rPr>
              <a:t>       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Prof.ssa M.Beltram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MOTIV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83920"/>
            <a:ext cx="8291520" cy="5227560"/>
          </a:xfrm>
          <a:prstGeom prst="rect">
            <a:avLst/>
          </a:prstGeom>
          <a:noFill/>
          <a:ln w="9360">
            <a:solidFill>
              <a:srgbClr val="35eb46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Sollecitare la riflessione su forme di apprendimento  attivo  e futuro ins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Costruire ambienti di apprendimento effic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Coinvolgere allieve e allievi in forme didattiche laborator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Favorire l’utilizzo delle TIC e l’uso di nuovi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Utilizzare le procedure didattiche scolastiche in contesti nu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Sviluppare pratiche di  ricerca-azione  allievi-insegna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Riflettere sul rapporto competenze e cittadinanza  ag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Promuovere pratiche orienta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Promuovere il dialogo scuola-professiona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Calibri"/>
              </a:rPr>
              <a:t>Favorire una conoscenza realistica dei profili professio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magine 1" descr=""/>
          <p:cNvPicPr/>
          <p:nvPr/>
        </p:nvPicPr>
        <p:blipFill>
          <a:blip r:embed="rId1"/>
          <a:stretch/>
        </p:blipFill>
        <p:spPr>
          <a:xfrm>
            <a:off x="7236000" y="115920"/>
            <a:ext cx="12398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NODI DEL PERCO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9360">
            <a:solidFill>
              <a:srgbClr val="35eb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Contestualizzazione azione attraverso l’analisi delle schede predispo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Discussione sugli stereotipi delle distinti profili profession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Traduzione delle schede di lavoro  in L2 (ingle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inguaggio/i e modalità  della somministrazione delle intervi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Scelta e disponibilità dei profili per la  somministrazi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nalisi - raccolta dati - interpretazione intervi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Messa a fuoco più realistica del profilo professionale intervist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Valore della micro-lingua specifica e traduzione interv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Studio dell’intervista con riferimento alle pratiche di analisi e interpretazione del tes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Commenti degli allievi sul Blo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Riflessione sull’esperienza sul Fo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Discussione in plen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Document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867280" y="4781520"/>
            <a:ext cx="24400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alibri"/>
              </a:rPr>
              <a:t>IL PROCESSO DI APPRENDIMENTO- INSEGN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8785080" cy="5689440"/>
          </a:xfrm>
          <a:prstGeom prst="rect">
            <a:avLst/>
          </a:prstGeom>
          <a:noFill/>
          <a:ln w="9360">
            <a:solidFill>
              <a:srgbClr val="35eb46"/>
            </a:solidFill>
            <a:prstDash val="dash"/>
            <a:miter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Contesti ai apprendimento e operat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Presentazione percorso con presenza espe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Discussione partecip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Distribuzione compiti (analisi e traduzione sched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Laboratorio di raccolta materiali e predisposizione ipotesi di interv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Somministrazione interv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Laboratorio di confronto e discussione: valore orientante a livello del profilo professionale e della modalità linguistico-comuni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Confronto con insegnante ed esperto su stereotipi, profili, forme e modalità di somministrazione dell’intervis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Commenti su Blo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Riflessione via Fo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Riflessione metacognitiva anche con riferimento a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Document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Calibri"/>
              </a:rPr>
              <a:t>Public  Speaking  </a:t>
            </a: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(Restituzione al Convegn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5eb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Valut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Connettore 2 4"/>
          <p:cNvCxnSpPr/>
          <p:nvPr/>
        </p:nvCxnSpPr>
        <p:spPr>
          <a:xfrm flipV="1">
            <a:off x="5363640" y="4612680"/>
            <a:ext cx="1326240" cy="49284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9" name="CasellaDiTesto 5"/>
          <p:cNvSpPr/>
          <p:nvPr/>
        </p:nvSpPr>
        <p:spPr>
          <a:xfrm>
            <a:off x="6699240" y="4341960"/>
            <a:ext cx="2016000" cy="520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9360">
            <a:solidFill>
              <a:srgbClr val="35eb4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060"/>
                </a:solidFill>
                <a:latin typeface="Arial"/>
              </a:rPr>
              <a:t>Competenze comunicative in 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ttore 2 8"/>
          <p:cNvCxnSpPr/>
          <p:nvPr/>
        </p:nvCxnSpPr>
        <p:spPr>
          <a:xfrm>
            <a:off x="5368680" y="5105520"/>
            <a:ext cx="1321200" cy="83880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61" name="CasellaDiTesto 10"/>
          <p:cNvSpPr/>
          <p:nvPr/>
        </p:nvSpPr>
        <p:spPr>
          <a:xfrm>
            <a:off x="6719760" y="5805360"/>
            <a:ext cx="2016360" cy="520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9360">
            <a:solidFill>
              <a:srgbClr val="35eb4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060"/>
                </a:solidFill>
                <a:latin typeface="Arial"/>
              </a:rPr>
              <a:t>Compe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2060"/>
                </a:solidFill>
                <a:latin typeface="Arial"/>
              </a:rPr>
              <a:t>Imparare a Impar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30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Calibri"/>
              </a:rPr>
              <a:t>I DATI RACCOL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2560" y="1306440"/>
            <a:ext cx="8677080" cy="507672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b0f0"/>
                </a:solidFill>
                <a:latin typeface="Arial"/>
                <a:ea typeface="Arial"/>
              </a:rPr>
              <a:t>I COMMENTI  - LE RIFLESSIONI - LE COMPETEN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Liceo Scientifico  «Albert Einstein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  <a:ea typeface="Arial"/>
              </a:rPr>
              <a:t>sede associat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  <a:ea typeface="Arial"/>
              </a:rPr>
              <a:t>ISIS MALIGNANI – CERVIGNANO DEL FRIU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uppo 6"/>
          <p:cNvGrpSpPr/>
          <p:nvPr/>
        </p:nvGrpSpPr>
        <p:grpSpPr>
          <a:xfrm>
            <a:off x="395280" y="2790720"/>
            <a:ext cx="8120160" cy="1554120"/>
            <a:chOff x="395280" y="2790720"/>
            <a:chExt cx="8120160" cy="1554120"/>
          </a:xfrm>
        </p:grpSpPr>
        <p:pic>
          <p:nvPicPr>
            <p:cNvPr id="65" name="Immagine 3" descr=""/>
            <p:cNvPicPr/>
            <p:nvPr/>
          </p:nvPicPr>
          <p:blipFill>
            <a:blip r:embed="rId1"/>
            <a:stretch/>
          </p:blipFill>
          <p:spPr>
            <a:xfrm>
              <a:off x="3102120" y="2791440"/>
              <a:ext cx="27064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"/>
            <p:cNvPicPr/>
            <p:nvPr/>
          </p:nvPicPr>
          <p:blipFill>
            <a:blip r:embed="rId2"/>
            <a:stretch/>
          </p:blipFill>
          <p:spPr>
            <a:xfrm>
              <a:off x="5808600" y="2790720"/>
              <a:ext cx="27068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"/>
            <p:cNvPicPr/>
            <p:nvPr/>
          </p:nvPicPr>
          <p:blipFill>
            <a:blip r:embed="rId3"/>
            <a:stretch/>
          </p:blipFill>
          <p:spPr>
            <a:xfrm>
              <a:off x="395280" y="2790720"/>
              <a:ext cx="2706840" cy="155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CasellaDiTesto 1"/>
          <p:cNvSpPr/>
          <p:nvPr/>
        </p:nvSpPr>
        <p:spPr>
          <a:xfrm>
            <a:off x="87480" y="128520"/>
            <a:ext cx="8805600" cy="657972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STEP 1  I dati racco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Classificazione sulla base dei  quesiti p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Q1.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Quali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discipline di studio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sono previste durante il percorso universit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Il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30%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degli studenti ha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posto il quesito in maniera 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Il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55%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ha invece rivolto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domande più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Riflessione a posteriori della classe:  </a:t>
            </a:r>
            <a:r>
              <a:rPr b="1" lang="it-IT" sz="1600" spc="-1" strike="noStrike">
                <a:solidFill>
                  <a:srgbClr val="00b0f0"/>
                </a:solidFill>
                <a:latin typeface="Arial"/>
                <a:ea typeface="Arial"/>
              </a:rPr>
              <a:t>effettuare un’intervista  richiede competenze che vanno rafforz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Q 2.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Quali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apacità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sono sottese allo studio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durante il percorso universit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Percentuale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di interviste che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hanno posto il quesito specifico 65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Percentuale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di interviste che 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non hanno posto questo quesito specifico: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s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apacità cognitive: </a:t>
            </a:r>
            <a:r>
              <a:rPr b="0" lang="it-IT" sz="1400" spc="-1" strike="noStrike">
                <a:solidFill>
                  <a:srgbClr val="002060"/>
                </a:solidFill>
                <a:latin typeface="Arial"/>
                <a:ea typeface="Arial"/>
              </a:rPr>
              <a:t>concentrazione, memoria, comprensione, comunicative, di analisi e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apacità emotive e/o caratteriali</a:t>
            </a:r>
            <a:r>
              <a:rPr b="0" lang="it-IT" sz="1400" spc="-1" strike="noStrike">
                <a:solidFill>
                  <a:srgbClr val="002060"/>
                </a:solidFill>
                <a:latin typeface="Arial"/>
                <a:ea typeface="Arial"/>
              </a:rPr>
              <a:t>: tenacia, dedizione, impegno cos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06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apacità: </a:t>
            </a:r>
            <a:r>
              <a:rPr b="0" lang="it-IT" sz="1400" spc="-1" strike="noStrike">
                <a:solidFill>
                  <a:srgbClr val="002060"/>
                </a:solidFill>
                <a:latin typeface="Arial"/>
                <a:ea typeface="Arial"/>
              </a:rPr>
              <a:t>pratiche, manuali, creativ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1901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tangolo 2"/>
          <p:cNvSpPr/>
          <p:nvPr/>
        </p:nvSpPr>
        <p:spPr>
          <a:xfrm>
            <a:off x="252360" y="382680"/>
            <a:ext cx="8728200" cy="375156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STEP 1  I dati raccolti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Classificazione sulla base dei  quesiti p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3.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uali sono le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metodologie di studio richieste durante  il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ercorso universit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ercentuale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i interviste che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hanno posto il quesito specifico 3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s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tudio cos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apacità di 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approfo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frequenza alle le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uppo 1"/>
          <p:cNvGrpSpPr/>
          <p:nvPr/>
        </p:nvGrpSpPr>
        <p:grpSpPr>
          <a:xfrm>
            <a:off x="252360" y="4722840"/>
            <a:ext cx="8729640" cy="1944720"/>
            <a:chOff x="252360" y="4722840"/>
            <a:chExt cx="8729640" cy="1944720"/>
          </a:xfrm>
        </p:grpSpPr>
        <p:pic>
          <p:nvPicPr>
            <p:cNvPr id="72" name="Picture 2" descr=""/>
            <p:cNvPicPr/>
            <p:nvPr/>
          </p:nvPicPr>
          <p:blipFill>
            <a:blip r:embed="rId1"/>
            <a:stretch/>
          </p:blipFill>
          <p:spPr>
            <a:xfrm>
              <a:off x="252360" y="4722840"/>
              <a:ext cx="2746440" cy="1944720"/>
            </a:xfrm>
            <a:prstGeom prst="rect">
              <a:avLst/>
            </a:prstGeom>
            <a:ln w="25560">
              <a:solidFill>
                <a:srgbClr val="ffc000"/>
              </a:solidFill>
              <a:miter/>
            </a:ln>
          </p:spPr>
        </p:pic>
        <p:pic>
          <p:nvPicPr>
            <p:cNvPr id="73" name="Picture 2" descr=""/>
            <p:cNvPicPr/>
            <p:nvPr/>
          </p:nvPicPr>
          <p:blipFill>
            <a:blip r:embed="rId2"/>
            <a:stretch/>
          </p:blipFill>
          <p:spPr>
            <a:xfrm>
              <a:off x="3179160" y="4722840"/>
              <a:ext cx="2746440" cy="1944720"/>
            </a:xfrm>
            <a:prstGeom prst="rect">
              <a:avLst/>
            </a:prstGeom>
            <a:ln w="25560">
              <a:solidFill>
                <a:srgbClr val="ffc000"/>
              </a:solidFill>
              <a:miter/>
            </a:ln>
          </p:spPr>
        </p:pic>
        <p:pic>
          <p:nvPicPr>
            <p:cNvPr id="74" name="Picture 2" descr=""/>
            <p:cNvPicPr/>
            <p:nvPr/>
          </p:nvPicPr>
          <p:blipFill>
            <a:blip r:embed="rId3"/>
            <a:stretch/>
          </p:blipFill>
          <p:spPr>
            <a:xfrm>
              <a:off x="6235560" y="4722840"/>
              <a:ext cx="2746440" cy="1944720"/>
            </a:xfrm>
            <a:prstGeom prst="rect">
              <a:avLst/>
            </a:prstGeom>
            <a:ln w="25560">
              <a:solidFill>
                <a:srgbClr val="ffc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99520"/>
            <a:ext cx="7918200" cy="618660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TEP 1  I dati raccolti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II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lassificazione sulla base dei  quesiti post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4 .Quali sono i  prerequisiti sono necessari </a:t>
            </a:r>
            <a:r>
              <a:rPr b="1" lang="it-IT" sz="1800" spc="-1" strike="noStrike">
                <a:solidFill>
                  <a:srgbClr val="00b0f0"/>
                </a:solidFill>
                <a:latin typeface="Arial"/>
                <a:ea typeface="Arial"/>
              </a:rPr>
              <a:t>per accedere a quel corso post - diploma o di laurea?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l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20%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dividua nella conoscenza della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lingua inglese un prerequisito per il proseguimento per percorso di studi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L‘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80% 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ritiene la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lingua straniera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un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re-requisito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er i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l futuro ambiente lavorativo.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La facoltà di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ngegneria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si richiede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olide conoscenza  matematiche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Gli studi di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grafica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 richiedono 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onoscenze di  storia dell’arte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e capacità di usare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oftware specifici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uasi tutti i casi risulta necessario il diploma superiore,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fatta eccezione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per il conseguimento del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iploma di conservatori</a:t>
            </a: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o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767560" y="620640"/>
            <a:ext cx="2517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969840"/>
            <a:ext cx="8229600" cy="5786640"/>
          </a:xfrm>
          <a:prstGeom prst="rect">
            <a:avLst/>
          </a:prstGeom>
          <a:noFill/>
          <a:ln w="22320">
            <a:solidFill>
              <a:srgbClr val="ffc000"/>
            </a:solidFill>
            <a:prstDash val="sysDash"/>
            <a:miter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TEP 1  I dati raccolti 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IV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Classificazione sulla base dei  quesiti p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Q5 . Quale/i aspetti caratteriali risultano necessari? </a:t>
            </a:r>
            <a:r>
              <a:rPr b="0" i="1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(</a:t>
            </a: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determinazione, tenacia, adattabilità, flessibilità, disciplina, costanza, creatività, ...) </a:t>
            </a:r>
            <a:r>
              <a:rPr b="1" lang="it-IT" sz="1800" spc="-1" strike="noStrike">
                <a:solidFill>
                  <a:srgbClr val="00b0f0"/>
                </a:solidFill>
                <a:latin typeface="Arial"/>
                <a:ea typeface="Arial"/>
              </a:rPr>
              <a:t>per meglio portare a termine il percorso di studio?</a:t>
            </a:r>
            <a:br>
              <a:rPr sz="1800"/>
            </a:br>
            <a:r>
              <a:rPr b="0" lang="it-IT" sz="1800" spc="-1" strike="noStrike">
                <a:solidFill>
                  <a:srgbClr val="002060"/>
                </a:solidFill>
                <a:latin typeface="Arial"/>
                <a:ea typeface="Arial"/>
              </a:rPr>
              <a:t>Sono le stesse necessarie al percorso di studi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52%:  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tenacia/determinazi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Ambiti lavorativi: medico, commercialista, organizzatore di eventi</a:t>
            </a:r>
            <a:r>
              <a:rPr b="0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48% capacità di ascolto e adattamen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24% la pazien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Altre doti fondamental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spirito di collaborazione (soprattutto in ambito medic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organizzazi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Impeg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apacità di sacrificio 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2060"/>
                </a:solidFill>
                <a:latin typeface="Arial"/>
                <a:ea typeface="Arial"/>
              </a:rPr>
              <a:t>consapevolezza della propria posizio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284880" y="1197000"/>
            <a:ext cx="2238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14:20:58Z</dcterms:created>
  <dc:creator>pierin_24</dc:creator>
  <dc:description/>
  <dc:language>en-US</dc:language>
  <cp:lastModifiedBy>admin</cp:lastModifiedBy>
  <dcterms:modified xsi:type="dcterms:W3CDTF">2013-05-04T11:34:29Z</dcterms:modified>
  <cp:revision>138</cp:revision>
  <dc:subject/>
  <dc:title>Diapositiva 1</dc:title>
</cp:coreProperties>
</file>