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645-3913-4563-AFAA-F483DD60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E81-7BFA-4BE3-9EE1-DC42A2F6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675-8E41-4EEB-B011-4E3408C3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D9E-8251-437B-8EAF-95DDD795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1A2C-50B7-4FB8-8D39-2ABBDC52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0390-E2B4-4B7B-8D5D-B62FBC70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1371-04E8-4223-9F3F-A6FEEA9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AD4D-4189-46FA-83C1-503336B6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CA6F-8704-4FD6-B790-34787BE1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30B7-D769-4B21-BC5A-90A8FA2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7502-ACF7-4BB3-BBD3-DC55D30B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9C7-27E5-4FDC-855D-CAC10766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0365-0278-4876-BA2E-98AB789E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AB67-ECB1-4016-905F-C6D90DDA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10AF-3A81-43F7-A496-4A203C07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D679-6BBA-4F79-9D1D-DE35D594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35F4-014F-41A6-A0BA-D82CBB89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285-3216-408C-8C64-90A06E12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915-6CFB-4E50-AAE4-2B4AC560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D6A-AC05-4EBF-BF6C-7E1DF42D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9C6-9917-479E-8CA3-73A44CC7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F32-C3C4-48FA-9AE0-65DF6CC1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7AC-3F19-4C74-BAD0-FA8CA83B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A15-F43A-4B96-86F9-AD221978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7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1B36-D99E-47A1-B8C4-22B1C61A8D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D75D-9B08-42B1-8604-C95B4F6163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william-wordsworth.jpg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he%20Chief%20Features%20of%20the%20Industrial%20Revolution.doc" TargetMode="External"/><Relationship Id="rId2" Type="http://schemas.openxmlformats.org/officeDocument/2006/relationships/hyperlink" Target="file:///The%20Chief%20Features%20of%20the%20Industrial%20Revolution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howcard Gothic"/>
              </a:rPr>
              <a:t>PREFACE TO LYRICAL BALLDS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Gill Sans Ultra Bold Condensed"/>
              </a:rPr>
              <a:t>William Wordworth’s views of poetry and the </a:t>
            </a:r>
            <a:r>
              <a:rPr b="0" lang="it-IT" sz="3200" spc="-1" strike="noStrike" u="sng">
                <a:solidFill>
                  <a:srgbClr val="f7cc2f"/>
                </a:solidFill>
                <a:uFillTx/>
                <a:latin typeface="Gill Sans Ultra Bold Condensed"/>
                <a:hlinkClick r:id="rId1"/>
              </a:rPr>
              <a:t>po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ssandra Giolo  -5c-  A.S. 2009-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howcard Gothic"/>
              </a:rPr>
              <a:t>PREFACE TO LYRICAL BALLADS</a:t>
            </a:r>
            <a:endParaRPr b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Gill Sans Ultra Bold Condensed"/>
              </a:rPr>
              <a:t>The Preface to lyrical Ballads is a text of literary criticism and it is considered the Manifesto of Romanticism. It deals wit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The content f po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The language of po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The identity of the po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The definition of the po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ssandra Giolo  -5c-  A.S. 2009-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howcard Gothic"/>
              </a:rPr>
              <a:t>THE CONTENT OF POETRY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Incidents and situation from common life, low and rustic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Describe this fact with immag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To make them interesting by tracing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them the way we associate ideas in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state of exci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33"/>
                </a:solidFill>
                <a:latin typeface="Gill Sans Ultra Bold Condensed"/>
              </a:rPr>
              <a:t>Ordinary things presented in unusual asp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ssandra Giolo  -5c-  A.S. 2009-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howcard Gothic"/>
              </a:rPr>
              <a:t>LANGUAGE OF THE POEM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7cc2f"/>
                </a:solidFill>
                <a:uFillTx/>
                <a:latin typeface="Gill Sans Ultra Bold Condensed"/>
                <a:hlinkClick r:id="rId1"/>
              </a:rPr>
              <a:t>Language</a:t>
            </a:r>
            <a:r>
              <a:rPr b="0" lang="it-IT" sz="3200" spc="-1" strike="noStrike" u="sng">
                <a:solidFill>
                  <a:srgbClr val="f7cc2f"/>
                </a:solidFill>
                <a:uFillTx/>
                <a:latin typeface="Gill Sans Ultra Bold Condensed"/>
                <a:hlinkClick r:id="rId2"/>
              </a:rPr>
              <a:t> </a:t>
            </a:r>
            <a:r>
              <a:rPr b="0" lang="it-IT" sz="3200" spc="-1" strike="noStrike">
                <a:solidFill>
                  <a:srgbClr val="ff9933"/>
                </a:solidFill>
                <a:latin typeface="Gill Sans Ultra Bold Condensed"/>
              </a:rPr>
              <a:t>really used by 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33"/>
                </a:solidFill>
                <a:latin typeface="Gill Sans Ultra Bold Condensed"/>
              </a:rPr>
              <a:t>Familiar, plain and si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33"/>
                </a:solidFill>
                <a:latin typeface="Gill Sans Ultra Bold Condensed"/>
              </a:rPr>
              <a:t>The language of low classes should be purified from defects and disgu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ssandra Giolo  -5c-  A.S. 2009-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howcard Gothic"/>
              </a:rPr>
              <a:t>THE IDENTITY OF THE POE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33"/>
                </a:solidFill>
                <a:latin typeface="Gill Sans Ultra Bold Condensed"/>
              </a:rPr>
              <a:t>He is a men speaking to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33"/>
                </a:solidFill>
                <a:latin typeface="Gill Sans Ultra Bold Condensed"/>
              </a:rPr>
              <a:t>He is more lively sensubily, with a great knowledge of human nature, a more comprehensive so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33"/>
                </a:solidFill>
                <a:latin typeface="Gill Sans Ultra Bold Condensed"/>
              </a:rPr>
              <a:t>He is impelled to create passions where he does not find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ssandra Giolo  -5c-  A.S. 2009-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howcard Gothic"/>
              </a:rPr>
              <a:t>THE DEFINITION OF POETRY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33"/>
                </a:solidFill>
                <a:latin typeface="Gill Sans Ultra Bold Condensed"/>
              </a:rPr>
              <a:t>It is the spontaneous overflow of powerful fee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33"/>
                </a:solidFill>
                <a:latin typeface="Gill Sans Ultra Bold Condensed"/>
              </a:rPr>
              <a:t>Poetry is born out of emotions recollected in tranquil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33"/>
                </a:solidFill>
                <a:latin typeface="Gill Sans Ultra Bold Condensed"/>
              </a:rPr>
              <a:t>Poetry’s ultimate goal is pl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ssandra Giolo  -5c-  A.S. 2009-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1-26T09:42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